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12987-0216-4CA6-BDDC-9BDC87B42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9A16-6918-4FF3-B41E-3D5953C7B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0B9A5-131C-4311-87D3-493C6336F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387FC-2E5E-40B1-A4FF-8D3CE2227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E69A7-9F8F-4CCE-93C0-2D787252B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9A404-7E88-487A-BFB0-6FB6DFFA9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0D030-2E29-4ED8-AB82-CA5E8B4A8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CC29E-BCC8-4870-BA72-3511FE672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4D15F-E9FF-4BBF-90C1-44465F278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41F24-D29B-4183-8C23-E414C4284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D755D-4476-4A12-BEF9-CE44D39E1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0E19B-7C39-4024-9983-DB8443BBB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B03A7-0C1C-44E4-9021-6118D2116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849A1-DF79-45E7-84B8-1E98D0F2F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DE627-1A4A-4EE7-9017-D8B4BFD31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71E45-782C-4E8D-9BF0-E3C42E205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767A3-3DBE-4BE2-B479-04A8864AB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1B0604-390D-4C50-9D3B-F0A7632314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0"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6FD278-5D52-4AB3-8CA2-9DB2B0973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48AAB-4BD0-431F-B600-20736215B5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5"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DE96F-FDEA-473A-82FE-47440B7C6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C033F7-7C24-43D1-8437-8CD613A341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47CA1-EEBF-48E6-A09C-939B4F6F1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0C2C8-C566-41D2-AF8C-DC3C458854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0"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7D021-959E-4734-9B5B-F9BB3B30B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7A0D4-A38A-46FF-BFB6-0695567B1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8"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0BAC9-E9E0-4AAA-863D-0368B222B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1"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2"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57937-F448-4112-95D0-2ABB60DEB7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E8FEBA-10BB-4E2E-884E-5D4D91D86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9"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0"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1A62E-39DC-4EBD-8FE1-252D4316B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EEDDD7-46E6-4086-A214-AFCC1BDB85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48EAA-034E-4E39-AD9A-CB4764583A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EB847-A835-4460-80C8-0E30DE98F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FA5B-22B8-4815-8613-2CC13C6A6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48B7C-822A-423F-A503-9394535D41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60EE1-E2CF-48C7-87B9-2401451681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06D30-A500-4975-B712-08BE62735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8A815-44D0-4629-84FE-8EFCACE53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3A440-59F5-44E0-B6AD-35FD65439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9C3EA-8F53-49A2-8DE3-6F32FBEA3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B62A9-7C0A-4A39-AE80-B740AAEFE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D223FA-0E1F-4EBB-8B49-B9FDEE086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9E8000-D0E9-47CD-9C80-6B6FEE34BD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05F01-ED46-46CB-9F3A-42F28C739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41140-E409-4CEF-B28E-38A709F3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DF6C-87AA-4CB9-A7A6-A1FF37DB2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67810-2B52-4F21-B0DE-7710BF86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A3B0-961E-4378-837A-F9BCAF9AA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E807-8830-4295-BE0E-1C852A7445D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FAAD-DA19-4302-B07F-654C81A75FA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85"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8DF2-DABE-4433-BAE1-A1F24C48DF07}"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95252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D0AC-8916-4C78-BE0A-89C3B549387B}"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5f5f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5f5f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952520"/>
            <a:ext cx="86868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00000"/>
              </a:solidFill>
              <a:latin typeface="Tahoma"/>
            </a:endParaRPr>
          </a:p>
        </p:txBody>
      </p:sp>
      <p:sp>
        <p:nvSpPr>
          <p:cNvPr id="167" name="PlaceHolder 2"/>
          <p:cNvSpPr>
            <a:spLocks noGrp="1"/>
          </p:cNvSpPr>
          <p:nvPr>
            <p:ph type="subTitle"/>
          </p:nvPr>
        </p:nvSpPr>
        <p:spPr>
          <a:xfrm>
            <a:off x="304920" y="5810040"/>
            <a:ext cx="8686800" cy="8953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8" name=""/>
          <p:cNvSpPr/>
          <p:nvPr/>
        </p:nvSpPr>
        <p:spPr>
          <a:xfrm>
            <a:off x="4495680" y="380880"/>
            <a:ext cx="35053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Verdana"/>
              </a:rPr>
              <a:t>Chapter 2: </a:t>
            </a:r>
            <a:r>
              <a:rPr b="1" lang="en-US" sz="1800" spc="-1" strike="noStrike">
                <a:solidFill>
                  <a:srgbClr val="080808"/>
                </a:solidFill>
                <a:latin typeface="Verdana"/>
              </a:rPr>
              <a:t>Options in Venture Financing–</a:t>
            </a:r>
            <a:r>
              <a:rPr b="0" lang="en-US" sz="1800" spc="-1" strike="noStrike">
                <a:solidFill>
                  <a:srgbClr val="080808"/>
                </a:solidFill>
                <a:latin typeface="Verdana"/>
              </a:rPr>
              <a:t> </a:t>
            </a:r>
            <a:r>
              <a:rPr b="1" lang="en-US" sz="1800" spc="-1" strike="noStrike">
                <a:solidFill>
                  <a:srgbClr val="080808"/>
                </a:solidFill>
                <a:latin typeface="Verdana"/>
              </a:rPr>
              <a:t>Debt Capital</a:t>
            </a:r>
            <a:r>
              <a:rPr b="0" lang="en-US" sz="1800" spc="-1" strike="noStrike">
                <a:solidFill>
                  <a:srgbClr val="080808"/>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oan Package (1)</a:t>
            </a:r>
            <a:endParaRPr b="0" lang="en-US" sz="4400" spc="-1" strike="noStrike">
              <a:solidFill>
                <a:srgbClr val="080808"/>
              </a:solidFill>
              <a:latin typeface="Tahoma"/>
            </a:endParaRPr>
          </a:p>
        </p:txBody>
      </p:sp>
      <p:sp>
        <p:nvSpPr>
          <p:cNvPr id="18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A loan package should contain a business plan, which include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a market analysis, </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a projected balance sheet, </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profit and loss projections, and </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cash flow projections. </a:t>
            </a:r>
            <a:endParaRPr b="0" lang="en-US" sz="3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oan Package (2)</a:t>
            </a:r>
            <a:endParaRPr b="0" lang="en-US" sz="4400" spc="-1" strike="noStrike">
              <a:solidFill>
                <a:srgbClr val="080808"/>
              </a:solidFill>
              <a:latin typeface="Tahoma"/>
            </a:endParaRPr>
          </a:p>
        </p:txBody>
      </p:sp>
      <p:sp>
        <p:nvSpPr>
          <p:cNvPr id="18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clude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mount of the loan, use of funds, means of repayment,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en the money will be needed,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mount and type of collateral to secure the loan,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mount of equity capital that you are personally investing in the business venture.</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oan Package (3)</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personal information in the loan package should include </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ducation, work history and business experience of everyone involved in the new busines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dit references, personal income tax statements for three years, and current financial statement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lender’s perspective</a:t>
            </a:r>
            <a:endParaRPr b="0" lang="en-US" sz="4400" spc="-1" strike="noStrike">
              <a:solidFill>
                <a:srgbClr val="080808"/>
              </a:solidFill>
              <a:latin typeface="Tahoma"/>
            </a:endParaRPr>
          </a:p>
        </p:txBody>
      </p:sp>
      <p:sp>
        <p:nvSpPr>
          <p:cNvPr id="19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new business is a higher risk than an existing business or a home loan. </a:t>
            </a:r>
            <a:endParaRPr b="0" lang="en-US" sz="2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ssets of those that fail can not be easily turned into cash for repayment of the loan.</a:t>
            </a:r>
            <a:endParaRPr b="0" lang="en-US" sz="2800" spc="-1" strike="noStrike">
              <a:solidFill>
                <a:srgbClr val="080808"/>
              </a:solidFill>
              <a:latin typeface="Tahom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endParaRPr b="0" lang="en-US" sz="2800" spc="-1" strike="noStrike">
              <a:solidFill>
                <a:srgbClr val="080808"/>
              </a:solidFill>
              <a:latin typeface="Tahoma"/>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a lender turns you down, ask them for specific reasons. If the reasons cannot be countered with this lender, the insight gained can be used to strengthen the presentation to the next on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hort-term financing</a:t>
            </a:r>
            <a:endParaRPr b="0" lang="en-US" sz="4400" spc="-1" strike="noStrike">
              <a:solidFill>
                <a:srgbClr val="080808"/>
              </a:solidFill>
              <a:latin typeface="Tahoma"/>
            </a:endParaRPr>
          </a:p>
        </p:txBody>
      </p:sp>
      <p:sp>
        <p:nvSpPr>
          <p:cNvPr id="19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asonal businesses that must build inventories in anticipation of selling requirements, and that will experience delays in collecting receivables, often need short-term financing for the interim, e.g.:</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ntractors with substantial work-in-process inventori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olesalers and manufacturers with a major portion of their assets tied up in inventories and/or receivable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ong-term financing</a:t>
            </a:r>
            <a:endParaRPr b="0" lang="en-US" sz="4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orrowing for a period greater than one year, including "intermediate debt" for periods of one to 10 year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ften associated with the need for fixed assets such as property, plant, and equipment where the assets will be used in the business for several year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urces can be varied. A major piece of equipment may be financed with its vendor, while real estate is usually financed with a mortgage compan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ecurring needs</a:t>
            </a:r>
            <a:endParaRPr b="0" lang="en-US" sz="4400" spc="-1" strike="noStrike">
              <a:solidFill>
                <a:srgbClr val="080808"/>
              </a:solidFill>
              <a:latin typeface="Tahoma"/>
            </a:endParaRPr>
          </a:p>
        </p:txBody>
      </p:sp>
      <p:sp>
        <p:nvSpPr>
          <p:cNvPr id="19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series of short-term needs should often be more realistically viewed as a long-term or permanent need for capital. </a:t>
            </a:r>
            <a:endParaRPr b="0" lang="en-US" sz="3200" spc="-1" strike="noStrike">
              <a:solidFill>
                <a:srgbClr val="080808"/>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is because the cash flow requirements are essentially permanent, though increasing and decreasing cyclically.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redit Lines</a:t>
            </a:r>
            <a:endParaRPr b="0" lang="en-US" sz="4400" spc="-1" strike="noStrike">
              <a:solidFill>
                <a:srgbClr val="080808"/>
              </a:solidFill>
              <a:latin typeface="Tahoma"/>
            </a:endParaRPr>
          </a:p>
        </p:txBody>
      </p:sp>
      <p:sp>
        <p:nvSpPr>
          <p:cNvPr id="20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en a business has established itself as being worthy of short-term credit, and the amount needed fluctuates from time to time, banks will often establish a line of credit (LOC) with the busines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line of credit is the maximum amount that the business can borrow at any one time and is essentially a loan on deman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ayment Schedules</a:t>
            </a:r>
            <a:endParaRPr b="0" lang="en-US" sz="4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ually amortized over the life of the loan, resulting in a constant payment, with the interest portion decreasing and principal portion increasing with each successive payment.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 schedules might use a current interest plus constant amount of principal structure, resulting in a declining payment as the loan progresses, or some long-term schedule that must be renewed annuall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ounted Notes</a:t>
            </a:r>
            <a:endParaRPr b="0" lang="en-US" sz="4400" spc="-1" strike="noStrike">
              <a:solidFill>
                <a:srgbClr val="080808"/>
              </a:solidFill>
              <a:latin typeface="Tahoma"/>
            </a:endParaRPr>
          </a:p>
        </p:txBody>
      </p:sp>
      <p:sp>
        <p:nvSpPr>
          <p:cNvPr id="20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some cases, particularly in short-term borrowing, the lender may require that the interest on a note be pre-paid.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total amount of interest due over the term of the note is then deducted from the principal before the proceeds are issued to the borrower. The note is then referred to as discount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ing a Startup</a:t>
            </a:r>
            <a:endParaRPr b="0" lang="en-US" sz="4400" spc="-1" strike="noStrike">
              <a:solidFill>
                <a:srgbClr val="080808"/>
              </a:solidFill>
              <a:latin typeface="Tahoma"/>
            </a:endParaRPr>
          </a:p>
        </p:txBody>
      </p:sp>
      <p:sp>
        <p:nvSpPr>
          <p:cNvPr id="17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ank debt is not a major source of financing in the earliest stages of a startup.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use of bank debt virtually always requires that some equity has come in first. </a:t>
            </a:r>
            <a:endParaRPr b="0" lang="en-US" sz="3200" spc="-1" strike="noStrike">
              <a:solidFill>
                <a:srgbClr val="080808"/>
              </a:solidFill>
              <a:latin typeface="Tahoma"/>
            </a:endParaRPr>
          </a:p>
          <a:p>
            <a:pPr marL="3258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5800" indent="-32580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bank will look at how much equity the entrepreneur has committed to the business as a signal of the entrepreneur’s faith in the busines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ured debt</a:t>
            </a:r>
            <a:endParaRPr b="0" lang="en-US" sz="4400" spc="-1" strike="noStrike">
              <a:solidFill>
                <a:srgbClr val="080808"/>
              </a:solidFill>
              <a:latin typeface="Tahoma"/>
            </a:endParaRPr>
          </a:p>
        </p:txBody>
      </p:sp>
      <p:sp>
        <p:nvSpPr>
          <p:cNvPr id="20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orrower pledges certain assets as collateral (security).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the business defaults on the loan the note-holder (lender) assumes ownership of the collateral. Such claims on specific assets pledged as collateral take effect before claims of other creditors are addressed.</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long-term borrowing, fixed assets such as real estate or equipment are usually pledged as collater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Unsecured debt</a:t>
            </a:r>
            <a:endParaRPr b="0" lang="en-US" sz="4400" spc="-1" strike="noStrike">
              <a:solidFill>
                <a:srgbClr val="080808"/>
              </a:solidFill>
              <a:latin typeface="Tahoma"/>
            </a:endParaRPr>
          </a:p>
        </p:txBody>
      </p:sp>
      <p:sp>
        <p:nvSpPr>
          <p:cNvPr id="20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oan is not secured by specific collateral but rather by the general earning power of the busines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liquidation, the holder of an unsecured note would normally be part of a group that divides the assets left after the secured debt holders have been satisfi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value of assets available at that point is often zero, or at best a small percentage of what is ow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Unsecured debt restrictions</a:t>
            </a:r>
            <a:endParaRPr b="0" lang="en-US" sz="4400" spc="-1" strike="noStrike">
              <a:solidFill>
                <a:srgbClr val="080808"/>
              </a:solidFill>
              <a:latin typeface="Tahoma"/>
            </a:endParaRPr>
          </a:p>
        </p:txBody>
      </p:sp>
      <p:sp>
        <p:nvSpPr>
          <p:cNvPr id="2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6000"/>
          </a:bodyPr>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nder will often place certain restrictions on the business to reduce the probability of default on the loan. </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ypical might be to prohibit the company from incurring any debt with a higher-placed claim on the assets of the business. </a:t>
            </a:r>
            <a:endParaRPr b="0" lang="en-US" sz="2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ch an agreement might prevent a company from financing its receivables or inventories since this would result in a prior claim against assets at liquidatio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ersonal guarantees</a:t>
            </a:r>
            <a:endParaRPr b="0" lang="en-US" sz="4400" spc="-1" strike="noStrike">
              <a:solidFill>
                <a:srgbClr val="080808"/>
              </a:solidFill>
              <a:latin typeface="Tahoma"/>
            </a:endParaRPr>
          </a:p>
        </p:txBody>
      </p:sp>
      <p:sp>
        <p:nvSpPr>
          <p:cNvPr id="21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quired by many lenders when issuing credit to new corporation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n protect the creditors if the business fails --- may be necessary to secure a loan.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mited liability feature of the corporation does not apply to new ventures if a personal guarantee is necessary to secure a loan in the first plac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terest rates</a:t>
            </a:r>
            <a:endParaRPr b="0" lang="en-US" sz="4400" spc="-1" strike="noStrike">
              <a:solidFill>
                <a:srgbClr val="080808"/>
              </a:solidFill>
              <a:latin typeface="Tahoma"/>
            </a:endParaRPr>
          </a:p>
        </p:txBody>
      </p:sp>
      <p:sp>
        <p:nvSpPr>
          <p:cNvPr id="21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cause of the risks involved with small business, lenders often seek greater collateral while charging higher interest rates to offset their added costs of credit search and loan administration.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anks and other commercial lending institutions normally reserve their lowest available interest rate, the so-called prime rate, for those low-risk situations such as short-term loans for major corporation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sset-based financing</a:t>
            </a:r>
            <a:endParaRPr b="0" lang="en-US" sz="4400" spc="-1" strike="noStrike">
              <a:solidFill>
                <a:srgbClr val="080808"/>
              </a:solidFill>
              <a:latin typeface="Tahoma"/>
            </a:endParaRPr>
          </a:p>
        </p:txBody>
      </p:sp>
      <p:sp>
        <p:nvSpPr>
          <p:cNvPr id="21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Inventory financing</a:t>
            </a:r>
            <a:r>
              <a:rPr b="0" lang="en-US" sz="2800" spc="-1" strike="noStrike">
                <a:solidFill>
                  <a:srgbClr val="080808"/>
                </a:solidFill>
                <a:latin typeface="Tahoma"/>
              </a:rPr>
              <a:t> is commonly used in automobile, boat and appliance retailing. As each unit is purchased by the retailer, the manufacturer is paid by the lender. The lender is repaid by the retailer when the unit is sold. </a:t>
            </a:r>
            <a:endParaRPr b="0" lang="en-US" sz="28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80808"/>
                </a:solidFill>
                <a:latin typeface="Tahoma"/>
              </a:rPr>
              <a:t>Accounts receivable financing</a:t>
            </a:r>
            <a:r>
              <a:rPr b="0" lang="en-US" sz="2800" spc="-1" strike="noStrike">
                <a:solidFill>
                  <a:srgbClr val="080808"/>
                </a:solidFill>
                <a:latin typeface="Tahoma"/>
              </a:rPr>
              <a:t> usually means pledging, or "assigning," receivables as collateral for a loa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t>
            </a:r>
            <a:r>
              <a:rPr b="0" lang="en-US" sz="4400" spc="-1" strike="noStrike">
                <a:solidFill>
                  <a:srgbClr val="080808"/>
                </a:solidFill>
                <a:latin typeface="Tahoma"/>
              </a:rPr>
              <a:t>Factoring”</a:t>
            </a:r>
            <a:endParaRPr b="0" lang="en-US" sz="4400" spc="-1" strike="noStrike">
              <a:solidFill>
                <a:srgbClr val="080808"/>
              </a:solidFill>
              <a:latin typeface="Tahoma"/>
            </a:endParaRPr>
          </a:p>
        </p:txBody>
      </p:sp>
      <p:sp>
        <p:nvSpPr>
          <p:cNvPr id="21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ccounts receivable may be sold to a third party at a discount based on the ages of amounts owed. This is essentially liquidation of an asset to produce ready cash.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actoring is sometimes considered a sign of weakness. When customers pay invoices directly to a third-party, the factor, it creates doubts about the company's financial stability and, therefore, its ability to deliv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rade credit </a:t>
            </a:r>
            <a:endParaRPr b="0" lang="en-US" sz="4400" spc="-1" strike="noStrike">
              <a:solidFill>
                <a:srgbClr val="080808"/>
              </a:solidFill>
              <a:latin typeface="Tahoma"/>
            </a:endParaRPr>
          </a:p>
        </p:txBody>
      </p:sp>
      <p:sp>
        <p:nvSpPr>
          <p:cNvPr id="22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me cash flow assistance is often available by using trade credit, credit extended by suppliers in the normal course of busines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ake full advantage of available payment term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reful use may be thought of as a loan available on a relatively informal basi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ecuring Financing</a:t>
            </a:r>
            <a:endParaRPr b="0" lang="en-US" sz="4400" spc="-1" strike="noStrike">
              <a:solidFill>
                <a:srgbClr val="080808"/>
              </a:solidFill>
              <a:latin typeface="Tahoma"/>
            </a:endParaRPr>
          </a:p>
        </p:txBody>
      </p:sp>
      <p:sp>
        <p:nvSpPr>
          <p:cNvPr id="22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often dependent on ability of the business to generate cash flows, by </a:t>
            </a:r>
            <a:endParaRPr b="0" lang="en-US" sz="3200" spc="-1" strike="noStrike">
              <a:solidFill>
                <a:srgbClr val="080808"/>
              </a:solidFill>
              <a:latin typeface="Tahoma"/>
            </a:endParaRPr>
          </a:p>
          <a:p>
            <a:pPr marL="335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inimizing total capital requirement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hortening time to break even,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lding down costs,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rowing “smartly,” and </a:t>
            </a:r>
            <a:endParaRPr b="0" lang="en-US" sz="3200" spc="-1" strike="noStrike">
              <a:solidFill>
                <a:srgbClr val="080808"/>
              </a:solidFill>
              <a:latin typeface="Tahoma"/>
            </a:endParaRPr>
          </a:p>
          <a:p>
            <a:pPr marL="335880" indent="-3358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izing opportunitie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orecasting</a:t>
            </a:r>
            <a:endParaRPr b="0" lang="en-US" sz="4400" spc="-1" strike="noStrike">
              <a:solidFill>
                <a:srgbClr val="080808"/>
              </a:solidFill>
              <a:latin typeface="Tahoma"/>
            </a:endParaRPr>
          </a:p>
        </p:txBody>
      </p:sp>
      <p:sp>
        <p:nvSpPr>
          <p:cNvPr id="22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8000"/>
          </a:bodyPr>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ecasting profits, thus determining when break-even will be achieved, is a critical component of the financial proposal. </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qually important is the amount of assets required to create the infrastructure to generate these profits.</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cash flow, not profits, that will generally insure the success of the busines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nk Requirements</a:t>
            </a:r>
            <a:endParaRPr b="0" lang="en-US" sz="44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Banks usually require an operating history, supported by financial statements, of three to five years to demonstrate the viability of the business. </a:t>
            </a:r>
            <a:endParaRPr b="0" lang="en-US" sz="3200" spc="-1" strike="noStrike">
              <a:solidFill>
                <a:srgbClr val="080808"/>
              </a:solidFill>
              <a:latin typeface="Tahom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oughly, a dollar of early stage equity can support a dollar of debt, if there is some additional collateral to further back the deb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ial Forecast</a:t>
            </a:r>
            <a:endParaRPr b="0" lang="en-US" sz="4400" spc="-1" strike="noStrike">
              <a:solidFill>
                <a:srgbClr val="080808"/>
              </a:solidFill>
              <a:latin typeface="Tahoma"/>
            </a:endParaRPr>
          </a:p>
        </p:txBody>
      </p:sp>
      <p:sp>
        <p:nvSpPr>
          <p:cNvPr id="22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nges on the sales forecast.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ariable costs and many asset levels are dependent on sales achieved.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forecasting sales it is important to thoroughly understand your market, the competition, and competitors’ responses to your action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reak-Even Analysis</a:t>
            </a:r>
            <a:endParaRPr b="0" lang="en-US" sz="4400" spc="-1" strike="noStrike">
              <a:solidFill>
                <a:srgbClr val="080808"/>
              </a:solidFill>
              <a:latin typeface="Tahoma"/>
            </a:endParaRPr>
          </a:p>
        </p:txBody>
      </p:sp>
      <p:sp>
        <p:nvSpPr>
          <p:cNvPr id="22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7000"/>
          </a:bodyPr>
          <a:p>
            <a:pPr marL="554400" indent="-5544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reak-even point is where sales revenues exactly cover their operating costs and expenses. It is the sales volume at which  there are no operating losses or operating profits.  </a:t>
            </a:r>
            <a:endParaRPr b="0" lang="en-US" sz="2800" spc="-1" strike="noStrike">
              <a:solidFill>
                <a:srgbClr val="080808"/>
              </a:solidFill>
              <a:latin typeface="Tahoma"/>
            </a:endParaRPr>
          </a:p>
          <a:p>
            <a:pPr marL="5544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54400" indent="-55440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technique for quantifying that volume, called break-even analysis, examines the interaction among fixed costs, variable costs, prices, and unit volume to determine the combination of elements in which revenues and total costs are equal.</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orm of Debt</a:t>
            </a:r>
            <a:endParaRPr b="0" lang="en-US" sz="4400" spc="-1" strike="noStrike">
              <a:solidFill>
                <a:srgbClr val="080808"/>
              </a:solidFill>
              <a:latin typeface="Tahoma"/>
            </a:endParaRPr>
          </a:p>
        </p:txBody>
      </p:sp>
      <p:sp>
        <p:nvSpPr>
          <p:cNvPr id="17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Short-term</a:t>
            </a:r>
            <a:r>
              <a:rPr b="0" lang="en-US" sz="3200" spc="-1" strike="noStrike">
                <a:solidFill>
                  <a:srgbClr val="080808"/>
                </a:solidFill>
                <a:latin typeface="Tahoma"/>
              </a:rPr>
              <a:t> debt is traditionally used for working capital needs and small equipment purchases.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80808"/>
                </a:solidFill>
                <a:latin typeface="Tahoma"/>
              </a:rPr>
              <a:t>Long-term</a:t>
            </a:r>
            <a:r>
              <a:rPr b="0" lang="en-US" sz="3200" spc="-1" strike="noStrike">
                <a:solidFill>
                  <a:srgbClr val="080808"/>
                </a:solidFill>
                <a:latin typeface="Tahoma"/>
              </a:rPr>
              <a:t> borrowing can be used for some working capital needs, but is usually assigned to finance property or equipment that serves as collateral for the deb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Lending sources</a:t>
            </a:r>
            <a:endParaRPr b="0" lang="en-US" sz="4400" spc="-1" strike="noStrike">
              <a:solidFill>
                <a:srgbClr val="080808"/>
              </a:solidFill>
              <a:latin typeface="Tahoma"/>
            </a:endParaRPr>
          </a:p>
        </p:txBody>
      </p:sp>
      <p:sp>
        <p:nvSpPr>
          <p:cNvPr id="176"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mmercial banks are the most common source of short-term debt. </a:t>
            </a:r>
            <a:endParaRPr b="0" lang="en-US" sz="3200" spc="-1" strike="noStrike">
              <a:solidFill>
                <a:srgbClr val="080808"/>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quipment manufacturers provide financing directly and through leases. </a:t>
            </a:r>
            <a:endParaRPr b="0" lang="en-US" sz="3200" spc="-1" strike="noStrike">
              <a:solidFill>
                <a:srgbClr val="080808"/>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nance companies provide direct loans and factoring of accounts receivable. </a:t>
            </a:r>
            <a:endParaRPr b="0" lang="en-US" sz="3200" spc="-1" strike="noStrike">
              <a:solidFill>
                <a:srgbClr val="080808"/>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ndors often provide financing, both through trade credit and installment sales contract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mall Business Administration</a:t>
            </a:r>
            <a:endParaRPr b="0" lang="en-US" sz="44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SBA does not loan money, but provides loan guarantees for businesses from SBA sanctioned lenders. </a:t>
            </a:r>
            <a:endParaRPr b="0" lang="en-US" sz="3200" spc="-1" strike="noStrike">
              <a:solidFill>
                <a:srgbClr val="080808"/>
              </a:solidFill>
              <a:latin typeface="Tahom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se guarantees make it feasible for commercial lenders to make loans that they otherwise could not make, due to the lack of credit history for a business startup.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elationship with a Banker </a:t>
            </a:r>
            <a:endParaRPr b="0" lang="en-US" sz="4400" spc="-1" strike="noStrike">
              <a:solidFill>
                <a:srgbClr val="080808"/>
              </a:solidFill>
              <a:latin typeface="Tahoma"/>
            </a:endParaRPr>
          </a:p>
        </p:txBody>
      </p:sp>
      <p:sp>
        <p:nvSpPr>
          <p:cNvPr id="18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 personal relationship with a banker increases the odds that the banker will be there for you should you experience unforeseen cash flow needs or other financial difficulties.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Your business banker can be a good source of advice and guidanc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sitive to using Debt</a:t>
            </a:r>
            <a:endParaRPr b="0" lang="en-US" sz="4400" spc="-1" strike="noStrike">
              <a:solidFill>
                <a:srgbClr val="080808"/>
              </a:solidFill>
              <a:latin typeface="Tahoma"/>
            </a:endParaRPr>
          </a:p>
        </p:txBody>
      </p:sp>
      <p:sp>
        <p:nvSpPr>
          <p:cNvPr id="182"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bt does not decrease or dilute the entrepreneur's equity position, thus increasing the entrepreneur’s return on invested capital.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bt’s fixed and low (relative to equity) cost means that if the business is highly successful, the bank’s return is still fixed and the windfall flows through to the founder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pproaching prospective lenders</a:t>
            </a:r>
            <a:endParaRPr b="0" lang="en-US" sz="44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fontScale="98000"/>
          </a:bodyPr>
          <a:p>
            <a:pPr marL="560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st, ask yourself the following questions: </a:t>
            </a:r>
            <a:endParaRPr b="0" lang="en-US" sz="2800" spc="-1" strike="noStrike">
              <a:solidFill>
                <a:srgbClr val="080808"/>
              </a:solidFill>
              <a:latin typeface="Tahoma"/>
            </a:endParaRPr>
          </a:p>
          <a:p>
            <a:pPr marL="560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mount needed? Highest amount of debt with which you would be comfortable? </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e of borrowed money?</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eans of repayment?</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isk of the venture?</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bt supported by current financial worth? </a:t>
            </a:r>
            <a:endParaRPr b="0" lang="en-US" sz="2800" spc="-1" strike="noStrike">
              <a:solidFill>
                <a:srgbClr val="080808"/>
              </a:solidFill>
              <a:latin typeface="Tahoma"/>
            </a:endParaRPr>
          </a:p>
          <a:p>
            <a:pPr marL="560160" indent="-56016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urces of collateral?</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David McNaughton</cp:lastModifiedBy>
  <dcterms:modified xsi:type="dcterms:W3CDTF">2008-01-24T04:41:22Z</dcterms:modified>
  <cp:revision>21</cp:revision>
  <dc:subject/>
  <dc:title>Raising Entrepreneurial Capital </dc:title>
</cp:coreProperties>
</file>